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427-42B2-4DC1-85DF-EA89DB2C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545-A7D9-447C-AFDA-EFA12C8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4EC-5174-47AD-9EEE-864BDB8F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737-BC1C-4E83-8202-B8A1C38A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E1B-FF5C-4839-B51C-A69F6B43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959-C710-4733-8C57-FFAEF306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167-8B7D-452C-AD7E-210044D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5C5-362A-4670-AFCF-E313A85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581-E22B-4531-AAA1-4D63CA4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BB7-3563-430F-8837-AA5583B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147-C15B-4278-B0F6-7EA6BA6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4A5-C21B-4DFB-962F-71383DA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E0B-3DEF-4C36-8AE3-66154A01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4 parts of the bod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pot the odd one ou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revise how to say something hu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get onto the games leaderboa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cab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2971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m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ñe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tobi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6000" y="704880"/>
            <a:ext cx="38876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566640"/>
            <a:ext cx="38178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pe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429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765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Pero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133720"/>
            <a:ext cx="4535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duelen las mue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076640"/>
            <a:ext cx="4535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duelen los o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19479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129528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79668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206064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790560" cy="110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11280" y="1052640"/>
            <a:ext cx="1296720" cy="89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84360" y="2133720"/>
            <a:ext cx="1296720" cy="90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11280" y="3213000"/>
            <a:ext cx="1008000" cy="868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826920" y="4365720"/>
            <a:ext cx="6480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cuer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89000"/>
            <a:ext cx="338436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¿Cómo se dice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My knee hu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My lungs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3. My heart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4. My back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5. My ears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6 My head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7. My leg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8. My ankle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62064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rod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1197000"/>
            <a:ext cx="4895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n los 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4360" y="177336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el cora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34936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espal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292428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n los 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350028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24360" y="407664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pi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65300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el tob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cuer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3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276640"/>
            <a:ext cx="669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 cuer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y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coraz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069920"/>
            <a:ext cx="39607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ída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1162080"/>
            <a:ext cx="4321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00" y="45086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os 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úlm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espal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8033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pi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8717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braz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8385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31:08Z</dcterms:created>
  <dc:creator>Chris Fuller</dc:creator>
  <dc:description/>
  <dc:language>en-US</dc:language>
  <cp:lastModifiedBy>Owner1</cp:lastModifiedBy>
  <dcterms:modified xsi:type="dcterms:W3CDTF">2008-10-19T13:34:05Z</dcterms:modified>
  <cp:revision>4</cp:revision>
  <dc:subject/>
  <dc:title>Slide 1</dc:title>
</cp:coreProperties>
</file>